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094E-5944-4EC0-9C0B-5D4FAF4DF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9AEC-4BE1-46F3-99A7-6D0285C35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C9EA-90FF-43C0-91D2-93F7ABD81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F380-2982-46C0-87BC-013C28DE0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79F4-3C98-40A3-B2FD-1C13E2BE1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42FD-33CB-48BE-8F86-0053DF2BC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7EC8-6A80-454D-8D35-6B95DA536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C159-D75B-4EE6-A749-09C68929A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8600-6360-4969-A7A4-185CF2A5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214B-EBE0-47C7-9E3A-1A921842F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4249-3237-43D2-A291-410EF6F06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EA29-FF3A-498E-AAFF-71BC10BD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0DD1-BEC2-4EB5-82BF-F62A8FDB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9BEA-47C5-4672-BC01-4C5E022C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F8C8-65ED-4965-91E8-E583E73B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A82C-7258-4376-BF0E-AF32ED0E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8583-DA81-4040-A22D-CF66782B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64C5-F90B-4703-99C1-C3D00ED2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C6C2-388B-4ABA-8203-C638C860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1EC2-29CC-4BDF-805F-0B3B8BBA5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192.107.108.56/portfolios/k/kernan_k/intech/Polygons/polygons.gif&amp;imgrefurl=http://192.107.108.56/portfolios/k/kernan_k/intech/hlnarrative.htm&amp;h=282&amp;w=282&amp;sz=7&amp;hl=en&amp;start=5&amp;usg=__OnImcu-F_j_OXZYmWCIexgtexvU=&amp;tbnid=nOWb48latKZ7-M:&amp;tbnh=114&amp;tbnw=114&amp;prev=/images%3Fq%3Dpolygons%26gbv%3D2%26hl%3Den%26safe%3Dactive%26sa%3D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lvillage.education.vic.gov.au/lv/diec/hp.nsf/Files/ionetrex/%24File/polygons.JPG&amp;imgrefurl=http://lvillage.education.vic.gov.au/lv/diec/hp.nsf/PreviewHomePages/ionetrex&amp;h=383&amp;w=476&amp;sz=13&amp;hl=en&amp;start=19&amp;usg=__D4n4GAgAZktA33q9U3CWC7OgNB8=&amp;tbnid=BwMOKT8N1XniXM:&amp;tbnh=104&amp;tbnw=129&amp;prev=/images%3Fq%3Dpolygons%26gbv%3D2%26hl%3Den%26safe%3Dactive%26sa%3D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lvillage.education.vic.gov.au/lv/diec/hp.nsf/Files/blaisehockey/%24File/polygons.JPG&amp;imgrefurl=http://lvillage.education.vic.gov.au/lv/diec/hp.nsf/PreviewHomePages/blaisehockey&amp;h=426&amp;w=681&amp;sz=15&amp;hl=en&amp;start=28&amp;usg=__SlfSZc8jnNTbDv38yDdUtohy1mA=&amp;tbnid=Dsl3eXHfTp9H8M:&amp;tbnh=87&amp;tbnw=139&amp;prev=/images%3Fq%3Dpolygons%26start%3D20%26gbv%3D2%26ndsp%3D20%26hl%3Den%26safe%3Dactive%26sa%3DN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om/imgres?imgurl=http://lvillage.education.vic.gov.au/lv/diec/hp.nsf/Files/brisnoopy/%24File/polygons.JPG&amp;imgrefurl=http://lvillage.education.vic.gov.au/lv/diec/hp.nsf/PreviewHomePages/brisnoopy&amp;h=341&amp;w=511&amp;sz=21&amp;hl=en&amp;start=38&amp;usg=__shAd9lQcuCi6tUUCobtxGfJIMks=&amp;tbnid=_7QUutrsfIhMaM:&amp;tbnh=87&amp;tbnw=131&amp;prev=/images%3Fq%3Dpolygons%26start%3D20%26gbv%3D2%26ndsp%3D20%26hl%3Den%26safe%3Dactive%26sa%3DN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athopenref.com/polygon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olyg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polygon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88620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polygon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62840" y="0"/>
            <a:ext cx="2981160" cy="2403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polygon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4114800" cy="257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polygon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876920" y="4022640"/>
            <a:ext cx="42670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polygon"/>
          <p:cNvPicPr/>
          <p:nvPr/>
        </p:nvPicPr>
        <p:blipFill>
          <a:blip r:embed="rId1"/>
          <a:stretch/>
        </p:blipFill>
        <p:spPr>
          <a:xfrm>
            <a:off x="228600" y="1490760"/>
            <a:ext cx="5367240" cy="53672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8"/>
          <p:cNvSpPr/>
          <p:nvPr/>
        </p:nvSpPr>
        <p:spPr>
          <a:xfrm>
            <a:off x="1371600" y="45720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at is a polygo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876920" y="1371600"/>
          <a:ext cx="4114800" cy="4572000"/>
        </p:xfrm>
        <a:graphic>
          <a:graphicData uri="http://schemas.openxmlformats.org/drawingml/2006/table">
            <a:tbl>
              <a:tblPr/>
              <a:tblGrid>
                <a:gridCol w="1939680"/>
                <a:gridCol w="217512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yg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Polyg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6"/>
          <p:cNvSpPr/>
          <p:nvPr/>
        </p:nvSpPr>
        <p:spPr>
          <a:xfrm>
            <a:off x="4952880" y="61722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n annotation pen to have a student fill in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ygon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480" y="41148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lygon is a closed plane figu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unded by three or more line seg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762120" y="205740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to the website to disco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types of polyg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athopenref.com/polygon.htm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yg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2285640"/>
            <a:ext cx="40384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As you look at the website, look for connections between the sides and the angles of the polygons. After completing the activity, place info into the chart using an annotation 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152280" y="14479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the website below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mste.uiuc.edu/exner/java.f/angleobject/#simu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724280" y="2362320"/>
          <a:ext cx="4038840" cy="4343400"/>
        </p:xfrm>
        <a:graphic>
          <a:graphicData uri="http://schemas.openxmlformats.org/drawingml/2006/table">
            <a:tbl>
              <a:tblPr/>
              <a:tblGrid>
                <a:gridCol w="2019600"/>
                <a:gridCol w="2019240"/>
              </a:tblGrid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RegularPolygonFunctions_800"/>
          <p:cNvPicPr/>
          <p:nvPr/>
        </p:nvPicPr>
        <p:blipFill>
          <a:blip r:embed="rId1"/>
          <a:stretch/>
        </p:blipFill>
        <p:spPr>
          <a:xfrm>
            <a:off x="0" y="1447920"/>
            <a:ext cx="4952880" cy="324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4876920" y="609480"/>
          <a:ext cx="4038480" cy="56772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Si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 of the Ang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TextBox 33"/>
          <p:cNvSpPr/>
          <p:nvPr/>
        </p:nvSpPr>
        <p:spPr>
          <a:xfrm>
            <a:off x="762120" y="53341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the table using an annotation p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4"/>
          <p:cNvSpPr/>
          <p:nvPr/>
        </p:nvSpPr>
        <p:spPr>
          <a:xfrm>
            <a:off x="457200" y="3049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es the number of sides of a polygon relate to the angle measur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, J.  Polygon. (2007)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th Open Reference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ieved fro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mathopenref.com/polygon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ner, N.  Polygon Angle Applet.  (2003).  MSTE, Retrieved from http://www.mste.uiuc.edu/exner/java.f/angleobject/#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20:20:36Z</dcterms:created>
  <dc:creator>CABELL BOE</dc:creator>
  <dc:description/>
  <dc:language>en-US</dc:language>
  <cp:lastModifiedBy>Lezlie</cp:lastModifiedBy>
  <dcterms:modified xsi:type="dcterms:W3CDTF">2008-11-15T18:24:31Z</dcterms:modified>
  <cp:revision>4</cp:revision>
  <dc:subject/>
  <dc:title>Polygons</dc:title>
</cp:coreProperties>
</file>